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E91-03A1-4A33-91AA-BE4CC615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33F-A668-419F-BCE8-65D388E6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A8F-D931-44ED-886D-0EC44C95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45C-5049-4410-9DD0-F5BBFDE3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36A6-B77B-4639-94A1-4F790A31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C393-EE67-491D-88F8-2815381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ACEE-9BFF-488D-8E8B-1FB2061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1E8C-0AFF-4777-9ABF-C914B021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7B4E-4976-4EA9-947A-2CB5492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95CD-F69E-44B7-8342-BDB06E68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B3D-C461-444E-92B5-359B412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1CB-7613-4E0B-B665-B7DDF6E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607-E721-408C-9201-6C49DFE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6A1-1E57-4025-9BCA-AFAD5A8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42A3-F4CF-4E29-9043-6BCFD94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CF10-1A2C-4C41-86B7-24DACAE2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8BA9-9905-4664-85E8-4C4E89BE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7843-E7AF-41F5-BE76-3B4C098B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D4FF-5A3E-4049-B722-2C2D576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5018-81EF-47D1-8ACF-BFC62AC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190D-07BC-4CB3-8B60-C21181C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DDB9-258B-4FA8-ABEB-B7A5E418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BEF-D387-4A65-B318-E7EA02D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5247-526C-488E-BFEB-4F3BB3B7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5949-72B3-4301-9668-6CFBB73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E9A9-8552-402A-86D9-42017BD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4397-2666-42E4-81A7-63D61384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3F03-F11C-4DEB-9EEA-BF29F36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629C-516E-4BCD-BFED-E0A9DA28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6B3C-6E88-4643-BCC2-B548C00C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3D10-ED19-48C7-9318-FCD04DA9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BC7C-25E5-4449-9A49-30FCDB3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225C-0B02-49C0-ADF4-A5CDAC6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1BA-8951-43A0-9CAC-B3264C89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14E7-D406-4DB1-8B26-272FDBB7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E5B7-D51B-4746-AE5F-2C69737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A416-B7C7-4ED4-BA5B-0CDCE14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C590-87B2-4F59-ABBB-D8543B5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1D7B-3C15-48A1-A6F7-1EED160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4935-2A9D-4E9D-A235-90B807EC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0DB1-957A-4E8D-B33D-8F1A9E1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999A-EB90-431E-8B94-C1904AED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2B9A-0C44-417E-A660-70CE3DF9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38E-5406-48F1-8B90-6E52C76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CA0-1A5A-484A-8B5F-84DB146E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7B3-5B4A-4058-AB86-C02A66C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B00-635C-4151-9A45-F712B4C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BE0-0849-465B-A075-0B14661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05B-043B-4334-92D5-214377E559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F887-AA21-41A0-95F6-23A5F41118B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9EA-112D-4229-B214-20F4514B06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E55B-D737-4104-ABBC-656383AB30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DB - 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 to Databas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information in the table in easy-read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like pivot tables in Ex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123A-882F-4A32-B249-59BA699420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tent Placeholder 6" descr="1.jpg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A4C-F879-4340-A090-5A7D8BEED3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ress Bo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6" descr="2.bmp"/>
          <p:cNvPicPr/>
          <p:nvPr/>
        </p:nvPicPr>
        <p:blipFill>
          <a:blip r:embed="rId1"/>
          <a:stretch/>
        </p:blipFill>
        <p:spPr>
          <a:xfrm>
            <a:off x="533520" y="1828800"/>
            <a:ext cx="710064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1A71-184F-4609-9E59-E967921D6E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609480" y="5791320"/>
            <a:ext cx="77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ook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ID:ke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, Lastname, Email, Birthd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6" descr="3.bmp"/>
          <p:cNvPicPr/>
          <p:nvPr/>
        </p:nvPicPr>
        <p:blipFill>
          <a:blip r:embed="rId1"/>
          <a:stretch/>
        </p:blipFill>
        <p:spPr>
          <a:xfrm>
            <a:off x="380880" y="7621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691-B7A6-4555-84CB-16BD0497D0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are Spreadsheets not suffici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ata with up to hundred thousands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edit a specific recor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sear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understand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E410-3620-4B15-95D2-A7D19B3A4D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ity:  string of how many character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typing Err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algary, Calagary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6CF-3B03-4E4F-B74C-125BECF828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F41-ED89-4DE1-A52A-8CA3B5095D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72200" y="1371600"/>
          <a:ext cx="2133720" cy="366408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</a:tblGrid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l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219320"/>
          <a:ext cx="5041800" cy="4714920"/>
        </p:xfrm>
        <a:graphic>
          <a:graphicData uri="http://schemas.openxmlformats.org/drawingml/2006/table">
            <a:tbl>
              <a:tblPr/>
              <a:tblGrid>
                <a:gridCol w="1977840"/>
                <a:gridCol w="1532160"/>
                <a:gridCol w="15318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2" name="Straight Arrow Connector 9"/>
          <p:cNvCxnSpPr/>
          <p:nvPr/>
        </p:nvCxnSpPr>
        <p:spPr>
          <a:xfrm flipV="1">
            <a:off x="5562360" y="2208960"/>
            <a:ext cx="6102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3" name="TextBox 10"/>
          <p:cNvSpPr/>
          <p:nvPr/>
        </p:nvSpPr>
        <p:spPr>
          <a:xfrm>
            <a:off x="1902240" y="6019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69274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cross referenc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using a string of 20 characters (city) in hundred of thousands of  records (Employees), I used only 2 characters (City I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storage sp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ives more speed in searching as w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llow typing err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can be usually provided using combo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way used when you fill your profile while making new email or new accou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how to implement this in Exce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CB85-FD73-45BD-86B3-3496DBE5F0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ant to make another table for Employee’s salary, what is the best reference to Employee 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, name, phone, address, city, o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13DC-F2EE-4DF4-A687-36D9A5E2CE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A574-476A-4FA6-8EEA-0C8E9B9FE3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743200" y="1676520"/>
          <a:ext cx="4876920" cy="4714920"/>
        </p:xfrm>
        <a:graphic>
          <a:graphicData uri="http://schemas.openxmlformats.org/drawingml/2006/table">
            <a:tbl>
              <a:tblPr/>
              <a:tblGrid>
                <a:gridCol w="1913040"/>
                <a:gridCol w="1482480"/>
                <a:gridCol w="14814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9" name="Straight Arrow Connector 9"/>
          <p:cNvCxnSpPr/>
          <p:nvPr/>
        </p:nvCxnSpPr>
        <p:spPr>
          <a:xfrm flipV="1">
            <a:off x="1980000" y="2971440"/>
            <a:ext cx="7628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11"/>
          <p:cNvCxnSpPr/>
          <p:nvPr/>
        </p:nvCxnSpPr>
        <p:spPr>
          <a:xfrm>
            <a:off x="1905120" y="3809520"/>
            <a:ext cx="838800" cy="839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1" name="TextBox 12"/>
          <p:cNvSpPr/>
          <p:nvPr/>
        </p:nvSpPr>
        <p:spPr>
          <a:xfrm>
            <a:off x="540720" y="3733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"/>
          <p:cNvCxnSpPr/>
          <p:nvPr/>
        </p:nvCxnSpPr>
        <p:spPr>
          <a:xfrm flipH="1">
            <a:off x="3733560" y="1294200"/>
            <a:ext cx="3816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>
            <a:off x="4114440" y="1294920"/>
            <a:ext cx="10674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Straight Arrow Connector 20"/>
          <p:cNvCxnSpPr/>
          <p:nvPr/>
        </p:nvCxnSpPr>
        <p:spPr>
          <a:xfrm>
            <a:off x="4114800" y="1294920"/>
            <a:ext cx="23630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5" name="TextBox 21"/>
          <p:cNvSpPr/>
          <p:nvPr/>
        </p:nvSpPr>
        <p:spPr>
          <a:xfrm>
            <a:off x="3967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3"/>
          <p:cNvCxnSpPr/>
          <p:nvPr/>
        </p:nvCxnSpPr>
        <p:spPr>
          <a:xfrm flipH="1">
            <a:off x="2970000" y="10681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7" name="TextBox 24"/>
          <p:cNvSpPr/>
          <p:nvPr/>
        </p:nvSpPr>
        <p:spPr>
          <a:xfrm>
            <a:off x="2445480" y="838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information about the da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living in Calg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with salary &gt; 5000$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3ED0-13B7-4F59-9564-9F3284EBD6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editing information in tables eas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form that appears to you when you want to edit your profil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A2B-B64E-4BEA-938D-043025D060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9T15:27:12Z</dcterms:modified>
  <cp:revision>136</cp:revision>
  <dc:subject/>
  <dc:title>CPSC 203</dc:title>
</cp:coreProperties>
</file>